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B49-17BB-44BE-BDB0-4EA7B839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32F-BF7E-43BF-94B2-D56A2BD5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355-C99B-4814-99F8-BA7DEE81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457-7E11-48DE-8206-6A52CCC6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7C3-B8AE-4040-BA5F-DF7DAE23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73E-B23B-40EA-A03A-6411ECD4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025-B92C-4C8F-A484-2B5E7C3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C5E-BB02-46B6-8012-4B0AAFB7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415-DCA3-4130-AA0D-AF6D6A8E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C46-0084-45FF-97D0-49EFD74E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686-6CCB-4C77-B4AE-7B13CB85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4C7-DCF3-48FF-B604-F2F7F31E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82FE-7DD5-41BC-B285-2F5532D71A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2F34-7D8A-454A-8FDB-CD8DC9FFF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624720" cy="64764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6624720" cy="47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DE DIRECTORE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797360"/>
            <a:ext cx="2737080" cy="307080"/>
          </a:xfrm>
          <a:prstGeom prst="rect">
            <a:avLst/>
          </a:prstGeom>
          <a:solidFill>
            <a:srgbClr val="fc20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ICO PÉREZ MOR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3429000"/>
            <a:ext cx="417672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scolarización e absentismo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B68-FC42-433C-A387-86717F01F56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D91C4-6F7E-4DFE-BD70-B94EC6931F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700280"/>
            <a:ext cx="8064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1. ¿Que protocolo deberían seguir os centros ante un caso de absentismo escolar?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197000"/>
            <a:ext cx="57592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tocolo de actuación por abse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492280"/>
            <a:ext cx="8820000" cy="36601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 protocolo debería  incluír os seguintes pa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Intervención no cent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arta xeral ás familias sobre a obriga de controlar a asistencia do alum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Intervención do titor/a e Departamento de 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tacto coa fam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Remitir aos servizos sociais do concello e á Delegación Provi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Intervención dos servizos de atención primaria do concel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Recollida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tacto coa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laboración coa policía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municación ao centro edu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En caso de desprotección do menor remitir ao servizo de men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C9B-2176-4FFC-8CD5-BF0B235039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F6E67-621E-4675-8407-483538AC99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844640"/>
            <a:ext cx="8064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1. ¿Que protocolo deberían seguir os centros ante un caso de absentismo escolar?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341360"/>
            <a:ext cx="57592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tocolo de actuación por abse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708280"/>
            <a:ext cx="8135640" cy="28371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Intervención do servizo de Menores da Xunta de G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n relación co absentismo hai que ter en conta o que prevé o artigo 29, 2 e 3 do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Decreto 42/200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do 7 de xaneiro, polo que se refunde a normativa reguladora vixente en materia de familia, infancia e adolescencia: </a:t>
            </a:r>
            <a:r>
              <a:rPr b="1" i="1" lang="gl-ES" sz="1800" spc="-1" strike="noStrike">
                <a:solidFill>
                  <a:srgbClr val="0000ff"/>
                </a:solidFill>
                <a:latin typeface="Arial"/>
              </a:rPr>
              <a:t>“ Quen teña coñecemento de que un menor non está escolarizado ou non asiste ao centro escolar de forma habitual e sen xustificación, durante o período obrigatorio, deberá poñelo en coñecemento das autoridades públicas competentes, que adoptarán as medidas necesaria para a súa escolariza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B4E-CA3A-49EA-8551-5D2543338E4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D0043-C406-4173-89D5-9B9D7BEE61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844640"/>
            <a:ext cx="80643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 ¿Está regulado o número de faltas para considerar absentismo?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341360"/>
            <a:ext cx="57592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tocolo de actuación por abse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492280"/>
            <a:ext cx="8135640" cy="36601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Non hai regulación algunha ao respecto. Tan só cabe comparar con outras ensinanzas nas que se perde o dereito á avaliación 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0000ff"/>
                </a:solidFill>
                <a:latin typeface="Arial"/>
              </a:rPr>
              <a:t>F.Profesional: As faltas, xustificadas ou non, que acaden o 10% das horas lectivas dun módulo determinan a perda do dereito á avaliación 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gl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gl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gl-E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0000ff"/>
                </a:solidFill>
                <a:latin typeface="Arial"/>
              </a:rPr>
              <a:t>E. Básicas de adultos:  O alumnado perderá o dereito á avaliación continu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0000ff"/>
                </a:solidFill>
                <a:latin typeface="Arial"/>
              </a:rPr>
              <a:t>Nun ámbito: Se o número de faltas sen xustificar acada o 10% das horas l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0000ff"/>
                </a:solidFill>
                <a:latin typeface="Arial"/>
              </a:rPr>
              <a:t>En  todos os ámbitos: Se o número de faltas sen xustificar acada o 30%  das horas lectivas de todos os ámbi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B2A-5A9E-4DC6-B9A0-7464F9C35DA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1657D-D90F-42D4-9DB0-1232DBB018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844640"/>
            <a:ext cx="8064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3. ¿Quen ten a responsabilidade sobre o alumnado menor de idade que acude só ao centro?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341360"/>
            <a:ext cx="57592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rotocolo de actuación por abse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708280"/>
            <a:ext cx="8351640" cy="31114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s pais/nais son os responsables da garda e custodia dos seus fillos. En consecuencia eles son os responsables da súa seguridade mentres non quedan ao coidado do profesorado do cent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utra cuestión é </a:t>
            </a:r>
            <a:r>
              <a:rPr b="1" lang="gl-ES" sz="1800" spc="-1" strike="noStrike">
                <a:solidFill>
                  <a:srgbClr val="0000ff"/>
                </a:solidFill>
                <a:latin typeface="Arial"/>
              </a:rPr>
              <a:t>cando non acoden a recoller ao alumnado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 Os profesores non deixan de ser responsables do alumnado ata que lle fan entrega desa responsabilidade a unha persoa maior que a asuma. En consecuencia se algún pai non ven a recoller ao seu fillo habitualmente o centro debería ter un documento escrito e asinado pola familia no que se faga cargo da responsabilidade do alumnado a partir do final do período lectivo di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46C-8CA7-4962-881C-B603E6E164D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C7EAB-DFA7-4D4B-BB07-A24C02BE3D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628640"/>
            <a:ext cx="806436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Un alumno/a chega tarde ao centro. Entra na clase e non hai ninguén. Pensa que os seus compañeiros saíron de excursión e marcha tras eles. Sae do recinto. Se nese momento lle pasa algo, ¿quen ten a responsabilidade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s pais porque chegan tarde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 conserxe por non estar na p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A dirección porque a porta estaba aberta?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125360"/>
            <a:ext cx="57592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Respons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789360"/>
            <a:ext cx="8208720" cy="228852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responsabilidade do pai/nai remata no momento no que lle entrega a custodia a outro adulto (condutor do autobús, profesorado do centro, etc.). En consecuencia o pai/nai don debería marchar do centro sen estar segura que un adulto se fai cargo do alumno/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o queira que, a diario, os pais/nais deixan ao alumnado á entrada do centro, este debería ter un sistema de seguridade que non permita que un alumno/a poida saír do centro sen autorización. Poderíase dar, en consecuencia, unha neglixencia </a:t>
            </a:r>
            <a:r>
              <a:rPr b="1" lang="gl-ES" sz="1800" spc="-1" strike="noStrike">
                <a:solidFill>
                  <a:srgbClr val="0000ff"/>
                </a:solidFill>
                <a:latin typeface="Arial"/>
              </a:rPr>
              <a:t>“in vigilando”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por parte do centro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BB9-89B5-49EE-8BBC-33CB7040EE8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1AF74-05C7-4366-8D10-C9E257E74C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628640"/>
            <a:ext cx="8064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¿Pode negárselle a un alumno/a a entrada no centro se de forma habitual chega tard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125360"/>
            <a:ext cx="57592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egación de entrada no 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492280"/>
            <a:ext cx="8351640" cy="25628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entro pode fixar no RRI criterios para evitar que o alumnado chegue tarde ás clases. Podería fixarse un criterio relacionado coa puntua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so non debería ter nada que ver coa negación do dereito á escolar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n calquera caso debería terse en conta o risco que podería correr o alumno/a ao que non se lle permite entrar na aula. (En caso de dúbida habería que entrar en contacto coa familia para que pase a recollelo evitando que se poida producir unha neglixencia </a:t>
            </a:r>
            <a:r>
              <a:rPr b="1" lang="gl-ES" sz="1800" spc="-1" strike="noStrike">
                <a:solidFill>
                  <a:srgbClr val="0000ff"/>
                </a:solidFill>
                <a:latin typeface="Arial"/>
              </a:rPr>
              <a:t>“in vigilando”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por parte do centro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837-7F98-4BE4-8886-AB9B2A3C924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273E3-34CF-4340-BCC0-1341A2E73B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9:34:47Z</dcterms:created>
  <dc:creator>-</dc:creator>
  <dc:description/>
  <dc:language>en-US</dc:language>
  <cp:lastModifiedBy>Educación</cp:lastModifiedBy>
  <dcterms:modified xsi:type="dcterms:W3CDTF">2009-11-09T07:50:14Z</dcterms:modified>
  <cp:revision>26</cp:revision>
  <dc:subject/>
  <dc:title>PREGUNTAS E RESPOSTAS</dc:title>
</cp:coreProperties>
</file>